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759B-EF87-44B5-9768-28DF91EE6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0183-6905-4BFB-8A82-CFD1DDB41F5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4258-CD0F-41DF-BAA8-85B5A94F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090-9710-4A5F-A2E3-1BD64494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4ABF-CA5E-4152-998B-E15D5C0C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642F-6AA3-49B4-803E-A0D9C132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D5E5-6268-4352-ACA0-20E7AD0E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2C90-C950-4E7D-9DEC-03831097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8DE6-3B71-4881-99EA-BBCDAB59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CB48-584E-403A-8373-79E7C28F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558A-F288-4345-A0A0-900EA53A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A952-089E-4A6C-9BB1-904633A4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E3F4-1534-4FE7-AE2C-E2BCA1A3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BDD5-D8B0-47BA-8E5D-94EE64ED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5DDC-D117-45B3-B4B7-E95941FC5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rainpop.com/science/matterandchemistry/acidsandbases/qanda_popup.weml?qanda_id=10629&amp;character=Cassie&amp;character_id=15" TargetMode="External"/><Relationship Id="rId2" Type="http://schemas.openxmlformats.org/officeDocument/2006/relationships/hyperlink" Target="http://www.brainpop.com/science/matterandchemistry/acidsandbases/qanda_popup.weml?qanda_id=10629&amp;character=Cassie&amp;character_id=15" TargetMode="External"/><Relationship Id="rId3" Type="http://schemas.openxmlformats.org/officeDocument/2006/relationships/hyperlink" Target="http://www.brainpop.com/science/matterandchemistry/acidsandbases/qanda_popup.weml?qanda_id=10629&amp;character=Cassie&amp;character_id=15" TargetMode="External"/><Relationship Id="rId4" Type="http://schemas.openxmlformats.org/officeDocument/2006/relationships/hyperlink" Target="http://www.brainpop.com/science/matterandchemistry/acidsandbases/qanda_popup.weml?qanda_id=10629&amp;character=Cassie&amp;character_id=15" TargetMode="Externa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rainpop.com/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brainpop.com/science/matterandchemistry/acidsandbases/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n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1958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3/1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H of common subst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506240"/>
            <a:ext cx="7467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 = 0: battery acid, strong hydrofluoric aci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 = 1: acid secreted by the lining of the stom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 = 2: lemon juice, vinega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= 3: grapefruit, orange juice, sod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 = 4: tomato juice, acid rai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 = 5: black coffe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 = 6: urine, saliv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 = 7: distilled water (neutral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 = 8: sea wate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 = 9: baking sod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 = 10: milk of magnesi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 = 11: ammonia solu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 = 12: soapy wate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 = 13: bleach, oven cleane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 = 14: liquid drain clea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rainpop.com/science/matterandchemistry/acidsandbases/qanda_popup.weml?qanda_id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=10629&amp;character=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assie&amp;character_id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31251" t="28003" r="32500" b="41003"/>
          <a:stretch/>
        </p:blipFill>
        <p:spPr>
          <a:xfrm>
            <a:off x="6858000" y="0"/>
            <a:ext cx="2286000" cy="1222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54864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o you know about substances that are acidic, basic (alkaline), or neut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371600" y="1143000"/>
            <a:ext cx="6476760" cy="3886200"/>
            <a:chOff x="1371600" y="1143000"/>
            <a:chExt cx="6476760" cy="3886200"/>
          </a:xfrm>
        </p:grpSpPr>
        <p:sp>
          <p:nvSpPr>
            <p:cNvPr id="75" name=""/>
            <p:cNvSpPr/>
            <p:nvPr/>
          </p:nvSpPr>
          <p:spPr>
            <a:xfrm>
              <a:off x="1371600" y="1143000"/>
              <a:ext cx="4031640" cy="3886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18720" y="1143000"/>
              <a:ext cx="4229640" cy="3886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34200" y="1461240"/>
              <a:ext cx="231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I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08520" y="1461240"/>
              <a:ext cx="231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54120" y="2098440"/>
              <a:ext cx="231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UT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" descr=""/>
          <p:cNvPicPr/>
          <p:nvPr/>
        </p:nvPicPr>
        <p:blipFill>
          <a:blip r:embed="rId2"/>
          <a:srcRect l="31251" t="28003" r="32500" b="41003"/>
          <a:stretch/>
        </p:blipFill>
        <p:spPr>
          <a:xfrm>
            <a:off x="0" y="0"/>
            <a:ext cx="2286000" cy="122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0" y="1066680"/>
            <a:ext cx="2133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ci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248520" y="5029200"/>
            <a:ext cx="2895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ase</a:t>
            </a:r>
            <a:endParaRPr b="0" lang="en-US" sz="1800" spc="1" strike="noStrike">
              <a:ln w="0">
                <a:noFill/>
              </a:ln>
              <a:solidFill>
                <a:srgbClr val="ccff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2114640" y="914400"/>
            <a:ext cx="7029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H 1-6.9, Tastes sour 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as man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Hydrog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tom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ssolve other substanc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416400"/>
            <a:ext cx="7772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H 7.1-14, Tastes bitter 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as man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33"/>
                </a:solidFill>
                <a:latin typeface="Times New Roman"/>
              </a:rPr>
              <a:t>Hydrogen-Oxyg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binations. They fee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lippery and mak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ood clean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0"/>
            <a:ext cx="57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 rot="16200000">
            <a:off x="-761400" y="3429000"/>
            <a:ext cx="2133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ci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 rot="5400000">
            <a:off x="7429320" y="3390840"/>
            <a:ext cx="289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ase</a:t>
            </a:r>
            <a:endParaRPr b="0" lang="en-US" sz="1800" spc="1" strike="noStrike">
              <a:ln w="0">
                <a:noFill/>
              </a:ln>
              <a:solidFill>
                <a:srgbClr val="ccff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2280" y="76320"/>
            <a:ext cx="88394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cid - Base - Neutral Fact Sheet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2120" y="762120"/>
            <a:ext cx="7467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igh Tower Text"/>
              </a:rPr>
              <a:t>What you need to know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igh Tower Text"/>
              <a:ea typeface="High Tower Text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09480" y="1447920"/>
            <a:ext cx="7953480" cy="4800600"/>
            <a:chOff x="609480" y="1447920"/>
            <a:chExt cx="7953480" cy="4800600"/>
          </a:xfrm>
        </p:grpSpPr>
        <p:sp>
          <p:nvSpPr>
            <p:cNvPr id="92" name=""/>
            <p:cNvSpPr/>
            <p:nvPr/>
          </p:nvSpPr>
          <p:spPr>
            <a:xfrm>
              <a:off x="3657600" y="1447920"/>
              <a:ext cx="4905360" cy="4800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9480" y="1447920"/>
              <a:ext cx="4965840" cy="4800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6019920" y="358128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n be balanced or neutralized with an aci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9920" y="289548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igher pH number means more ba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9920" y="2468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H 7.1 to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1646280"/>
            <a:ext cx="1904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y hydrogen and oxygen ions combined in hydroxyl groups (OH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275904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qual number of hydrogen ions (H+) &amp; hydroxyl groups (OH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886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H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435924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stilled (pure) water is neut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434340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kes good clea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5410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astes bi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676520" y="1905120"/>
            <a:ext cx="2514600" cy="3659760"/>
            <a:chOff x="1676520" y="1905120"/>
            <a:chExt cx="2514600" cy="3659760"/>
          </a:xfrm>
        </p:grpSpPr>
        <p:sp>
          <p:nvSpPr>
            <p:cNvPr id="104" name=""/>
            <p:cNvSpPr/>
            <p:nvPr/>
          </p:nvSpPr>
          <p:spPr>
            <a:xfrm>
              <a:off x="1752480" y="1905120"/>
              <a:ext cx="243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any hydrogen ions (H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52480" y="2438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H 1 to 6.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2987640"/>
              <a:ext cx="1676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ower pH number means more acidi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76520" y="3809880"/>
              <a:ext cx="1981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an be balanced or neutralized with a bas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76520" y="472428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ssolves other substan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76520" y="5257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astes so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5791320" y="48769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eels slipp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733920" y="6248520"/>
            <a:ext cx="1752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Neutral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69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Key Question 13 Exit Sl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tudy for Quiz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(Wednesday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320" y="609480"/>
            <a:ext cx="8991360" cy="63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EY QUESTION 13: What is pH and how is it determined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e pH and explain what pH stands f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 is a measure of how ____________ or ___________ a substance 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 stands for ________________ of __________________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be the pH scale and explain what it measu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H scale ranges from _____ to _____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 measures how many ___________________ atoms or ___________________ groups are in a substa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entify the characteristic properties of acids and bas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ids have a pH range from _____ to _____, bases have a pH range from _____ to _____, and neutrals have a pH of exactly _____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 the properties of acids and bases in the table belo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e indicator, provide 2 examples of substances that are indicators, and explain how they wor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indicator is a substance that ____________________________ in acids and bas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cabbage juice is an indicator that changes _______________ in acids and ______________ in bas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indicators include…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8440" y="0"/>
            <a:ext cx="89632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Key Question Exit Sli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28600" y="4511520"/>
          <a:ext cx="8686440" cy="669960"/>
        </p:xfrm>
        <a:graphic>
          <a:graphicData uri="http://schemas.openxmlformats.org/drawingml/2006/table">
            <a:tbl>
              <a:tblPr/>
              <a:tblGrid>
                <a:gridCol w="1736640"/>
                <a:gridCol w="1737000"/>
                <a:gridCol w="1739160"/>
                <a:gridCol w="1736640"/>
                <a:gridCol w="1737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type of substances feel slippery, taste bitter, and are good clean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TPChart"/>
          <p:cNvGraphicFramePr/>
          <p:nvPr/>
        </p:nvGraphicFramePr>
        <p:xfrm>
          <a:off x="4508640" y="2514600"/>
          <a:ext cx="4572000" cy="42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514600"/>
                    <a:ext cx="457200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114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t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AnswerNow"/>
          <p:cNvGrpSpPr/>
          <p:nvPr/>
        </p:nvGrpSpPr>
        <p:grpSpPr>
          <a:xfrm>
            <a:off x="3460680" y="6286680"/>
            <a:ext cx="2222640" cy="444240"/>
            <a:chOff x="3460680" y="6286680"/>
            <a:chExt cx="2222640" cy="444240"/>
          </a:xfrm>
        </p:grpSpPr>
        <p:sp>
          <p:nvSpPr>
            <p:cNvPr id="125" name="ANShape"/>
            <p:cNvSpPr/>
            <p:nvPr/>
          </p:nvSpPr>
          <p:spPr>
            <a:xfrm>
              <a:off x="3460680" y="6286680"/>
              <a:ext cx="222264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NText"/>
            <p:cNvSpPr/>
            <p:nvPr/>
          </p:nvSpPr>
          <p:spPr>
            <a:xfrm>
              <a:off x="3460680" y="62866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CK YOUR GRAD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ANYTHING HIGHLIGHTED THEN YOU NEED TO TURN IN MISSING OR MAKEUP WORK BEFORE ARTS/PE TODAY (MONDAY)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ment 2 was Key Question 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ment 4 was the “What is pH?”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missing/makeup work not turned in before Arts/PE will not be reported on the inter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76320" y="76320"/>
            <a:ext cx="5796720" cy="914400"/>
            <a:chOff x="76320" y="76320"/>
            <a:chExt cx="5796720" cy="9144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13381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 txBox="1"/>
            <p:nvPr/>
          </p:nvSpPr>
          <p:spPr>
            <a:xfrm>
              <a:off x="1447560" y="187200"/>
              <a:ext cx="4425480" cy="73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76320" y="990720"/>
            <a:ext cx="8991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ake a table listing substances that are acidic, basic, and neutra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28600" y="3600360"/>
          <a:ext cx="8686800" cy="3105360"/>
        </p:xfrm>
        <a:graphic>
          <a:graphicData uri="http://schemas.openxmlformats.org/drawingml/2006/table">
            <a:tbl>
              <a:tblPr/>
              <a:tblGrid>
                <a:gridCol w="2808360"/>
                <a:gridCol w="2809800"/>
                <a:gridCol w="3068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-Up: Acid, base, neutral substanc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 of Acids, Bases, and Neut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inPop – Acids and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 and Base Property Sort (ActivInspi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Question 13 Exit S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for Quiz 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reactants and products in a chemical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4E670166-D471-468C-AEE4-E9ABFA01869B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Thursday, July 30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dentify the common properties of acids and bases.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40384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990099"/>
                </a:solidFill>
                <a:latin typeface="Times New Roman"/>
              </a:rPr>
              <a:t>Acids and Bas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380880"/>
            <a:ext cx="3581280" cy="3581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556272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brainpop.com/science/matterandchemistry/acidsandbas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rcRect l="27501" t="16000" r="29376" b="8999"/>
          <a:stretch/>
        </p:blipFill>
        <p:spPr>
          <a:xfrm rot="21069000">
            <a:off x="456840" y="1447560"/>
            <a:ext cx="2193840" cy="2382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rcRect l="27501" t="17001" r="29376" b="8999"/>
          <a:stretch/>
        </p:blipFill>
        <p:spPr>
          <a:xfrm rot="456000">
            <a:off x="6562440" y="1595160"/>
            <a:ext cx="206064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27501" t="16000" r="29376" b="8999"/>
          <a:stretch/>
        </p:blipFill>
        <p:spPr>
          <a:xfrm>
            <a:off x="1295280" y="0"/>
            <a:ext cx="630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27501" t="17001" r="29376" b="8999"/>
          <a:stretch/>
        </p:blipFill>
        <p:spPr>
          <a:xfrm>
            <a:off x="1378080" y="0"/>
            <a:ext cx="639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29687" t="32293" r="31253" b="29168"/>
          <a:stretch/>
        </p:blipFill>
        <p:spPr>
          <a:xfrm>
            <a:off x="228600" y="201600"/>
            <a:ext cx="8686800" cy="642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39:32Z</dcterms:created>
  <dc:creator>CCPS</dc:creator>
  <dc:description/>
  <dc:language>en-US</dc:language>
  <cp:lastModifiedBy>CCPS</cp:lastModifiedBy>
  <dcterms:modified xsi:type="dcterms:W3CDTF">2010-03-01T18:39:47Z</dcterms:modified>
  <cp:revision>1</cp:revision>
  <dc:subject/>
  <dc:title>Slide 1</dc:title>
</cp:coreProperties>
</file>